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F4D-28A6-4059-9099-9D6BD7D8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716-10E3-48A7-9F0E-D603E71D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20A-3561-4D00-A65B-89699C8C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ECC-4E8A-4EAC-8BCD-6BA9E279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4D6-F72F-4BDA-B864-551CC51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483-07FD-4599-9713-EBE335BC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7BB-374A-4BD3-9632-C8A321F2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AEE-5CBD-494F-B9F1-751703A3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BC9-C8B4-4C7A-825E-B5AB6D6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DAD-4026-4C59-B35A-387EB5A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6E8-8967-458A-9C50-67404EE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5FE-33A4-4724-AE88-D1A27FE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E55-FCCB-4773-BF53-CA38B05C2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1447920"/>
            <a:ext cx="538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mula f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31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19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84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8487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7848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157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3962520" cy="15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2120" y="2438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1:46Z</dcterms:modified>
  <cp:revision>212</cp:revision>
  <dc:subject/>
  <dc:title>Slide 1</dc:title>
</cp:coreProperties>
</file>